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DE8-E14B-4229-AE4F-E019B461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26F-CBDB-44B2-94CE-BDC42229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26A-7E3B-4183-A8EE-F560FCA6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2DD-3C5C-4551-A9D6-BEC8D4D5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0B5-574D-4E7B-8BE9-798595B5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94A-91EA-4618-A606-EA1116AD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5C3-5297-46AE-AFE6-3FC4C22D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721-2BB5-480A-ADA7-390D141A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C2D-1EEE-4783-84B1-4A80CB14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7CC-BD4E-4887-8248-0F538E86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AC4-DB81-48A6-ADE1-01636945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FA7-641C-4BBC-974B-3CC690EC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B0C1-DBED-429C-A610-932E3DA44F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7375e"/>
                </a:solidFill>
                <a:latin typeface="Arial Narrow"/>
              </a:rPr>
              <a:t>مهارات الكتابة الإ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Arial"/>
              </a:rPr>
              <a:t>أ. محمد الحري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Arial"/>
              </a:rPr>
              <a:t>الفصل الثان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Arial"/>
              </a:rPr>
              <a:t>أنواع التقاريـــ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3733920" y="658800"/>
            <a:ext cx="2095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التقارير المالية حسب الاحتيا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</a:rPr>
              <a:t>تقارير الاتجا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تبين نتائج  نشاط معين على مدار زمن معين، بالتالي محاولة التنبؤ بالاتجاه الذي سيتجه إليه هذا النشا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</a:rPr>
              <a:t>التقارير التحلي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تدرس حالة أمر ما في أماكن (بيئات) مختلفة أو تدرس أنشطة مختلفة لأمر م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مثال: قيمة الأرباح لسلعة ما في السعودية أعلى من أي سوق محلية أخر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ابع: التقارير المالية حسب الاحتيا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</a:rPr>
              <a:t>تقاريرالأرباح والخسار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تحديد الربح والخسارة خلال فترة معي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تمتاز بكونها مختص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</a:rPr>
              <a:t>تقارير التكال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توصل بيانات التكلفة إلى جهات إدارية تنفيذ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تحتاجها الإدارة لضبط التكلفة ولتقليل قيمة الإنفاق من خلال تغيير خطط الإنت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7</a:t>
            </a: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- تقارير 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قاريرمراقبة وتقييم الأد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r" rtl="1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ا الهدف منها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قارير الإنتاج والمبي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r" rtl="1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ا الهدف منها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قارير علمية متخصص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33"/>
                </a:solidFill>
                <a:latin typeface="Arial"/>
                <a:cs typeface="PT Bold Heading"/>
              </a:rPr>
              <a:t>أمثلة لتقاري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 Department Budget (FY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لف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Evaluation Report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لف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Report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ل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عرف على طرق تصنيف التقار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عرف على أنواع التقارير بناء على تصنيف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نواع من التقاري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قارير الما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قارير الاتج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قارير تحلي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قارير الأرباح والخسائ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قارير التكالي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قارير 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06668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صنّف التقارير بناء على 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طبيعة التقار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خب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لحلي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جة رسمية التقر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س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غير رس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سب الفترة الزم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و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غير دو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7925040" cy="4438800"/>
          </a:xfrm>
          <a:prstGeom prst="rect">
            <a:avLst/>
          </a:prstGeom>
          <a:ln w="0">
            <a:noFill/>
          </a:ln>
        </p:spPr>
      </p:pic>
      <p:sp>
        <p:nvSpPr>
          <p:cNvPr id="48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1166760"/>
            <a:ext cx="80769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43000" y="1757520"/>
            <a:ext cx="7696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723888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5</a:t>
            </a: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-</a:t>
            </a:r>
            <a:r>
              <a:rPr b="0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 تقارير دورية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iodical Reports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ُعَد على فترات زمنية منتظ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ن أمثلتها: تقرير المبيعات والحضور والغي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6</a:t>
            </a: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-</a:t>
            </a:r>
            <a:r>
              <a:rPr b="0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 تقارير غير دورية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-Periodical Reports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لا يرتبط  إعدادها بزمن معيّ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ُعَد حين يحتاج إلي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ن أمثلتها: تقارير التقدم في إنجاز العمل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ess Reports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7</a:t>
            </a: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- التقارير المالية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ancial Reports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تعد التقارير المالية بحسب الغرض منها، ويمكن تصنيف هذا النوع من التقارير بناء على أمرين: الزمن أو الاحتيا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التقارير المالية حسب الزم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تعلقة بالماضي: مثل تقارير الحسابات الختامية والميز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تعلقة بالحاضر: مثل التقارير التحلي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تعلقة بالمستقبل: مثل تقارير الموازنات التخطيط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9:44:00Z</dcterms:created>
  <dc:creator>abc</dc:creator>
  <dc:description/>
  <dc:language>en-US</dc:language>
  <cp:lastModifiedBy>abc</cp:lastModifiedBy>
  <dcterms:modified xsi:type="dcterms:W3CDTF">2012-03-03T23:16:4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